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EE6-BF34-4034-B9A0-A8E5039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693-0F92-48DE-80DE-2EB8295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7CB-BCB4-48F5-8E50-46DA32E1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467-ACD9-414C-ADCC-F2824593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D42-C525-45BC-8675-52993B90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9C0-C563-4A4A-B42C-375D763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97E-861C-40E6-9CA6-4EF9DFE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A6F6-DFF7-4998-A597-0501FD42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80E6-5FA0-4DC6-B357-C81D330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F1E-3434-4288-B0DC-67F70F2B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9859-D6D7-4A08-B04A-4A7B4EA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83A-975A-47FD-B7D0-3C50FA1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1F7-B17B-406F-BD47-924B27B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2954-BA0B-4862-9EC4-68568AE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C934-C766-4EDB-946D-330EBA2D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360-342F-4DE5-96B6-C3D167C1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217-71E2-4C56-85FC-536647A5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A17-3E7B-4310-A23C-CB1DA4D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D3B-FEB2-4BDE-80D5-A3BF3BB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E49-FC68-447D-A547-3384958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650-5465-4794-942D-353582C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622-02EB-47AB-AE62-FA56E8E9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033-703D-4EC6-AD63-CA7CD71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96B-E224-47BA-B51F-65A0EC8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7C19-00BC-4181-BF21-38D1A61FB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DAE-9EB1-49D9-BD09-E5DA94401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Leadership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ituational Approach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Vroom-Yetten Contingency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 model developed by Victor Vroom and Phillip Yetten is based on a model which takes a contingency approach to leade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is based on the assumption that situational variables interacting with personal attributes or characteristics of the leader result in leader behavior that can affect organizational effectivenes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s of Managerial Decision Styles in the Vroom-Yetten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olve the problem using information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btain necessary information from your fol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the information with relevant followers (individu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the problem with your followers as a group, obtain ideas and sugg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hare a problem with your followers to generate and evaluate alternatives and reach cons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Vroom-Yetten Summariz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is important for several reas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widely respected among researchers in leadership behavi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 should have the ability to vary their styles to fit the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can work to be developed into more effective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Hersey-Blanchard Tridemensional Leader Effectiveness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is model, the terms task behavior and relationship behavior are used to describe leadership sty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sk behavi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The extent to which leaders are likely to organize and define the roles of the members of their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 behavior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extent to which leaders are likely to maintain personal relationships between themselves and members of their group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Hersey-Blanchard Tridemensional Leader Effectiveness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828800"/>
          <a:ext cx="7772400" cy="4951080"/>
        </p:xfrm>
        <a:graphic>
          <a:graphicData uri="http://schemas.openxmlformats.org/drawingml/2006/table">
            <a:tbl>
              <a:tblPr/>
              <a:tblGrid>
                <a:gridCol w="1981080"/>
                <a:gridCol w="3200400"/>
                <a:gridCol w="2590920"/>
              </a:tblGrid>
              <a:tr h="1343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 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Relatio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 Behavi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                                             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048120" y="579132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228600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733920"/>
            <a:ext cx="131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ness Dim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ffectiveness of leaders depends on how appropriate their leadership style is to the situation in which they oper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effectiveness to the task behavior and relationship behavior dimensions, leadership style and situational demands are integr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stru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gather data about behavior of leaders, two leader effectiveness and adaptability description instruments were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dership Instrum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sistenc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istency is using the style appropriate for the followers’ level of readiness in such a way that they understand why they are getting a certain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ies show that there is no best style of leader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ive leaders adapt their behavior to meet the needs of their followers’ and the particular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ituational Approaches to Leadersh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tional approaches to leadership examine the interplay among  the leader, the follower and the situation in order to find causal relationships that will lead to predictability of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ituational approaches require the leader to behave in a flexible manner to be able to diagnose leadership style appropriate to the situation and to be able to apply the appropriate sty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ve Situational Models and Theor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annenbaum-Schmidt Continuum of Leadership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edler’s Conting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ouse-Mitchell Path-Goal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room-Yetten Conting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rsey-Blanchard Tridimensional Leader Effectiven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annenbaum-Schmidt Continuum of Leader Behavi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hoose a Leadership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one of the seven possible leader behaviors depending upon the for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wo styles of leader behavior which are authoritarian and democrat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thoritari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eader makes decision and announces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umes people are innately lazy and unrel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mocr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permits followers to function within limits defined by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umes that people can be basically self-directed and creative at work if properly motiv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edler’s Contingency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major situational variab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r -Members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sonal relations with members of thei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sk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ting a well defined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on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ower and authority their position prov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Leadership Styles Fiedler Concluded Are Appropriate for Various Grou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- Oriented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onships-Oriented Considerate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sk-Oriented Sty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vorable-Leadership 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uation Intermediate in Favorableness for Lea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favorable Leadership 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use-Mitchell Path-Goal Theo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is theory, leaders are effective because of their impact on followers’ motivation, ability to perform effectively and satisfa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ory is called Path-Goal because its major concern is how the leader influences the followers’ perception of their work, goals, personal goals and path to goal attai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eader Roles in the Path-Goal Mod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th Cla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defines what follower must do to attain work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clarifies follower’s work r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er has increased knowledge and confidence to accomplish outco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rease Rew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learns follower’s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matches followers needs to reward if work outcomes are accomplish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er increases value of work outcomes for foll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257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360" y="537516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181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er displays increased effort and mo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60958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al work outcomes are accomp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146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243828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5410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1:51:05Z</dcterms:created>
  <dc:creator>Valued Gateway Client</dc:creator>
  <dc:description/>
  <dc:language>en-US</dc:language>
  <cp:lastModifiedBy>AEURY</cp:lastModifiedBy>
  <dcterms:modified xsi:type="dcterms:W3CDTF">2006-09-05T16:58:16Z</dcterms:modified>
  <cp:revision>28</cp:revision>
  <dc:subject/>
  <dc:title>Leadership:  Situational Approaches</dc:title>
</cp:coreProperties>
</file>